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58F-4548-43F7-9B2C-A9C73ECA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1DA-ECE8-47A6-A0EE-01773631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20E-F89F-41E5-9EF3-36162161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5B4-C3C3-4E48-8C51-55BA8532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AE9-30DD-48AC-9BA1-6F2FF494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FA2-C03E-4B57-9680-1CA4EFAC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593-0EC9-4DB4-875F-C62D61F5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AA6-F4EF-4EFC-9CFF-EF3C8BF2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D52-C8FF-41F0-94D0-9212C2D1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406-A086-4E79-BB16-C2ED3D95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516-8F0C-4AD5-BC52-169E7BD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47E-0502-4C43-AF33-4F0DE9C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C24C-51B0-4C0A-BCCE-0AB23CBC7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3124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Cross Section - central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p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big primary root with much smaller secondary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dandelions, carrots, bee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ips, radishes, parsn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oak, hickory, coni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enetrate deeply into the soil = good for drought conditions &amp; food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p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810240" cy="464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rous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ro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ly branching roots; holds soil particles together (prevent ero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all grasses, many weeds &amp; tre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rous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419360" cy="4953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62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itious (Prop)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that grow out from the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echanical support; help support a tree at it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in tropical &amp; subtropic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itious (Prop)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962520" cy="510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40388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ial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that grow above ground &amp; absorb moisture from the ai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eant to provide support for clim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piphytes - orchid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English Ivy, Poison Ivy 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ther vines &amp; cr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ial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038840" cy="525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4419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2:26:17Z</dcterms:created>
  <dc:creator>Clayton Johns</dc:creator>
  <dc:description/>
  <dc:language>en-US</dc:language>
  <cp:lastModifiedBy>Clayton Johns</cp:lastModifiedBy>
  <dcterms:modified xsi:type="dcterms:W3CDTF">2010-05-06T12:45:36Z</dcterms:modified>
  <cp:revision>4</cp:revision>
  <dc:subject/>
  <dc:title>Root Types</dc:title>
</cp:coreProperties>
</file>